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A4B-DB8C-4762-BF1A-70C47166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D61-3980-4F8B-8E1B-E8EB03C7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086-9B0E-4B34-9FFC-766A6E0F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E6C-0509-4C0F-8603-8D9F9697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48E-F0D6-490C-B0F5-11C0B2E0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603-1687-4423-A0AD-A7B9A23E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7C1-73BC-4151-B90B-4DE01272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EE5-CA54-486C-A4E0-E4928ED8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B7C-7ABC-47C1-BD1A-0D01BBC3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00D-D15C-4A7A-9876-7F016F59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CC2-5630-45F6-BFEF-B97D422E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BAE-D868-480E-9433-33759244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F606-E062-428B-AB02-9CC5FB02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the blueprint for protein synthesis, but proteins are synthesized outside of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NA need to exit and re-enter the nucleus?  If so, how does it avoid being dama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proteins be synthesized at different rates if there is only 1 complete set of DNA in every cell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dog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olecular genetics is that protein synthesis occurs as a two-step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opying of information in DNA into mRNA (messenger 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using the mRNA blueprint to create a chain of amino acids (involves ribosom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8240" y="1535040"/>
            <a:ext cx="45734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oxyribose 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ose su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-str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-str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T, C-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U, C-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nucleus and in cytopla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formation from DNA is transcribed onto mRNA; length depends on length of gene tran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ransfers amino acids to ribosome to build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tructural component of rib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polymerase binds to DNA at the promoter site (near the beginning of the g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DNA template, RNA polymerase adds ribonucleotides to build mRNA tran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polymerase recognizes signal to stop transcription (termination 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cognizes specific sequence on mRNA and binds to that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moves along mRNA 3 nucleotides at a time;  tRNA delivers amino acids to elongate polypept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base “stop” signal reached and ribosome falls off the mRNA, releasing polypept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3-base sequence on mRNA that codes for a specific 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signals initiation; codes for methio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oes not code for an amino acid;  signals 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1-11-14T18:29:01Z</dcterms:modified>
  <cp:revision>23</cp:revision>
  <dc:subject/>
  <dc:title>Molecular Genetics</dc:title>
</cp:coreProperties>
</file>